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0.wmf" ContentType="image/x-wmf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160-F9AC-437E-A0FB-AAD58BEA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503-F83A-472A-A6E8-CB25D7C9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45A-49A8-4850-BDD4-7A903648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05AD-7EBE-4144-809A-36F07FAB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FF44-1330-45A0-867F-00717878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5609-4324-46B1-92F0-18EA90C0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5FC4-817E-460A-8FEC-4C8D7C36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D41C-6699-4878-83CF-C39F3EAE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6F99-5357-481F-8D1A-AC926563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6B49-4CDF-4EA0-9066-488CC015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A44A-3852-4AD9-8977-AC1A740A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350-8549-431E-A8AB-84CE4396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D965-D602-4097-BB0C-A50DCD4E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CD47-01FB-40F8-B6C6-9A67ECE8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8D2F-9121-42E5-932C-A0B1C49D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26D1-8352-4659-95B5-2D2FD5F2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AB3F-8D43-415A-B034-BE963D86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9670-6088-4953-BB8E-8F499827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A189-EDDD-4076-84C1-883B669E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ED1-F4A6-442D-BBFF-28EB6C4E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2CC-7BEB-40CE-8B74-4DADB3F7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607-7A23-432A-B95A-2A2CE143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6B1-6442-4971-868A-E7D75352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C25-421B-4889-8377-C0BE179E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34E3-067B-4222-A97B-739D276176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0C69-6D22-453C-BD59-6F8EAFF63C5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" Target="slide14.xml"/><Relationship Id="rId10" Type="http://schemas.openxmlformats.org/officeDocument/2006/relationships/image" Target="../media/image14.png"/><Relationship Id="rId11" Type="http://schemas.openxmlformats.org/officeDocument/2006/relationships/slide" Target="slide5.xml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2060"/>
                </a:solidFill>
                <a:latin typeface="Times New Roman"/>
              </a:rPr>
              <a:t>Б Е Л К И</a:t>
            </a: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7" descr="{B074B8AD-67A9-4515-98C6-26CB297AE431}"/>
          <p:cNvPicPr/>
          <p:nvPr/>
        </p:nvPicPr>
        <p:blipFill>
          <a:blip r:embed="rId1"/>
          <a:stretch/>
        </p:blipFill>
        <p:spPr>
          <a:xfrm>
            <a:off x="1692360" y="2565360"/>
            <a:ext cx="5976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енатурация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рушение природной структуры белка (под действием нагревания и химических реагенто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Необратимая денатурация белка куриного яйца под воздействием высокой температуры"/>
          <p:cNvPicPr/>
          <p:nvPr/>
        </p:nvPicPr>
        <p:blipFill>
          <a:blip r:embed="rId1"/>
          <a:stretch/>
        </p:blipFill>
        <p:spPr>
          <a:xfrm>
            <a:off x="1547640" y="1882800"/>
            <a:ext cx="496908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мфотерност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__________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йства кисло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ок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__________ свойства основа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2340000" y="321300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1979640" y="407664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цветные реакции белков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–  качественные реакц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а) ксантопротеиновая реакция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елок +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NO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конц.  →   желтое окраш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б) биуретовая реакци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Белок +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u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OH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↓ → раствор фиолетового цв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)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орение –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запах жжённых перь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интез бел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3" descr="Молекулярная модель малой (слева) и большой (справа) субъединиц бактериальной рибосомы — молекулярной машины, синтезирующей белки. Голубым цветом показаны белки в составе рибосомы, но основную структурную роль выполняет рРНК"/>
          <p:cNvPicPr/>
          <p:nvPr/>
        </p:nvPicPr>
        <p:blipFill>
          <a:blip r:embed="rId1"/>
          <a:stretch/>
        </p:blipFill>
        <p:spPr>
          <a:xfrm>
            <a:off x="900000" y="1208160"/>
            <a:ext cx="61200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L23p10p01"/>
          <p:cNvPicPr/>
          <p:nvPr/>
        </p:nvPicPr>
        <p:blipFill>
          <a:blip r:embed="rId1"/>
          <a:stretch/>
        </p:blipFill>
        <p:spPr>
          <a:xfrm>
            <a:off x="5003640" y="3789360"/>
            <a:ext cx="3770640" cy="28274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мецкий химик Эмиль Фишер первым выяснил, как построены молекулы белков и заложил основы их химического синтеза. В начале 20 века Фишер доказал пептидную теорию строения белков, выдвинутую русским химиком Данилевским, синтезировав полипептиды состоящие из 3 – 18 аминокислотных остат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редерик Грант Бантинг – канадский ученый, в 1923 году  стал лауреатом Нобелевской премии за открытие и изучение инсулина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87880" cy="6205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539640" y="64911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14.11.1891–22.2.19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71680" y="9284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1992 году был получен гормон инсулин, позволяющий контролировать сахарный диаб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571920" y="2357280"/>
            <a:ext cx="517680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кс Фердинанд Перутц – австрийский ученый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1937 года изучал структуру гемоглобин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210200" cy="5762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9"/>
          <p:cNvSpPr/>
          <p:nvPr/>
        </p:nvSpPr>
        <p:spPr>
          <a:xfrm>
            <a:off x="759240" y="6308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1914-2002), Авс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{BBE8BE40-FBA9-4281-A2D5-AEA24EA34F5E}"/>
          <p:cNvPicPr/>
          <p:nvPr/>
        </p:nvPicPr>
        <p:blipFill>
          <a:blip r:embed="rId1"/>
          <a:stretch/>
        </p:blipFill>
        <p:spPr>
          <a:xfrm>
            <a:off x="4067280" y="3284640"/>
            <a:ext cx="4716360" cy="32954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5056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акс Фердинанд Перутц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сшифровал пространственное строение молеку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моглобина и построил ее точную моде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Член Национальной академии наук США (с 1970 года), Австрийской АН в Вене (с 1963 года), Американской академии искусств и наук (с 1963 года). Лауреат Нобелевской премии по химии за 1962 г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Прямоугольник 1" descr=""/>
          <p:cNvPicPr/>
          <p:nvPr/>
        </p:nvPicPr>
        <p:blipFill>
          <a:blip r:embed="rId1"/>
          <a:stretch/>
        </p:blipFill>
        <p:spPr>
          <a:xfrm>
            <a:off x="2505240" y="30240"/>
            <a:ext cx="4151160" cy="828720"/>
          </a:xfrm>
          <a:prstGeom prst="rect">
            <a:avLst/>
          </a:prstGeom>
          <a:ln w="0">
            <a:noFill/>
          </a:ln>
        </p:spPr>
      </p:pic>
      <p:grpSp>
        <p:nvGrpSpPr>
          <p:cNvPr id="168" name="Скругленный прямоугольник 2"/>
          <p:cNvGrpSpPr/>
          <p:nvPr/>
        </p:nvGrpSpPr>
        <p:grpSpPr>
          <a:xfrm>
            <a:off x="225360" y="963720"/>
            <a:ext cx="3328920" cy="755640"/>
            <a:chOff x="225360" y="963720"/>
            <a:chExt cx="3328920" cy="755640"/>
          </a:xfrm>
        </p:grpSpPr>
        <p:pic>
          <p:nvPicPr>
            <p:cNvPr id="169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25360" y="963720"/>
              <a:ext cx="3328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17520" y="1031760"/>
              <a:ext cx="315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Белки пищ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Скругленный прямоугольник 3"/>
          <p:cNvSpPr/>
          <p:nvPr/>
        </p:nvSpPr>
        <p:spPr>
          <a:xfrm>
            <a:off x="285840" y="20001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d9f0"/>
              </a:gs>
              <a:gs pos="100000">
                <a:srgbClr val="f1f4fb"/>
              </a:gs>
            </a:gsLst>
            <a:lin ang="16200000"/>
          </a:gradFill>
          <a:ln w="9360">
            <a:solidFill>
              <a:srgbClr val="a4afc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acc4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Скругленный прямоугольник 4"/>
          <p:cNvSpPr/>
          <p:nvPr/>
        </p:nvSpPr>
        <p:spPr>
          <a:xfrm>
            <a:off x="285840" y="307188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d9f0"/>
              </a:gs>
              <a:gs pos="100000">
                <a:srgbClr val="f1f4fb"/>
              </a:gs>
            </a:gsLst>
            <a:lin ang="16200000"/>
          </a:gradFill>
          <a:ln w="9360">
            <a:solidFill>
              <a:srgbClr val="a4afc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acc4"/>
                </a:solidFill>
                <a:latin typeface="Constantia"/>
              </a:rPr>
              <a:t>Аминокисло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Скругленный прямоугольник 5"/>
          <p:cNvSpPr/>
          <p:nvPr/>
        </p:nvSpPr>
        <p:spPr>
          <a:xfrm>
            <a:off x="285840" y="40719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d9f0"/>
              </a:gs>
              <a:gs pos="100000">
                <a:srgbClr val="f1f4fb"/>
              </a:gs>
            </a:gsLst>
            <a:lin ang="16200000"/>
          </a:gradFill>
          <a:ln w="9360">
            <a:solidFill>
              <a:srgbClr val="a4afc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acc4"/>
                </a:solidFill>
                <a:latin typeface="Constantia"/>
              </a:rPr>
              <a:t>Кров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Скругленный прямоугольник 6"/>
          <p:cNvSpPr/>
          <p:nvPr/>
        </p:nvSpPr>
        <p:spPr>
          <a:xfrm>
            <a:off x="5357880" y="3357720"/>
            <a:ext cx="321480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d9f0"/>
              </a:gs>
              <a:gs pos="100000">
                <a:srgbClr val="f1f4fb"/>
              </a:gs>
            </a:gsLst>
            <a:lin ang="16200000"/>
          </a:gradFill>
          <a:ln w="9360">
            <a:solidFill>
              <a:srgbClr val="a4afc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acc4"/>
                </a:solidFill>
                <a:latin typeface="Constantia"/>
              </a:rPr>
              <a:t>Синте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acc4"/>
                </a:solidFill>
                <a:latin typeface="Constantia"/>
              </a:rPr>
              <a:t>видоспецифических бел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acc4"/>
                </a:solidFill>
                <a:latin typeface="Constantia"/>
              </a:rPr>
              <a:t>(миозин, козеин и др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Скругленный прямоугольник 7"/>
          <p:cNvSpPr/>
          <p:nvPr/>
        </p:nvSpPr>
        <p:spPr>
          <a:xfrm>
            <a:off x="5429160" y="4929120"/>
            <a:ext cx="321480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d9f0"/>
              </a:gs>
              <a:gs pos="100000">
                <a:srgbClr val="f1f4fb"/>
              </a:gs>
            </a:gsLst>
            <a:lin ang="16200000"/>
          </a:gradFill>
          <a:ln w="9360">
            <a:solidFill>
              <a:srgbClr val="a4afc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acc4"/>
                </a:solidFill>
                <a:latin typeface="Constantia"/>
              </a:rPr>
              <a:t>Органоиды клеток тела, мембраны, фермен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Скругленный прямоугольник 8"/>
          <p:cNvGrpSpPr/>
          <p:nvPr/>
        </p:nvGrpSpPr>
        <p:grpSpPr>
          <a:xfrm>
            <a:off x="5297400" y="2676600"/>
            <a:ext cx="3328920" cy="755640"/>
            <a:chOff x="5297400" y="2676600"/>
            <a:chExt cx="3328920" cy="755640"/>
          </a:xfrm>
        </p:grpSpPr>
        <p:pic>
          <p:nvPicPr>
            <p:cNvPr id="17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5297400" y="2676600"/>
              <a:ext cx="3328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389560" y="274644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Стрелка вниз 9"/>
          <p:cNvGrpSpPr/>
          <p:nvPr/>
        </p:nvGrpSpPr>
        <p:grpSpPr>
          <a:xfrm>
            <a:off x="1511280" y="1609560"/>
            <a:ext cx="615960" cy="536760"/>
            <a:chOff x="1511280" y="1609560"/>
            <a:chExt cx="615960" cy="536760"/>
          </a:xfrm>
        </p:grpSpPr>
        <p:pic>
          <p:nvPicPr>
            <p:cNvPr id="180" name="Стрелка вниз 9" descr=""/>
            <p:cNvPicPr/>
            <p:nvPr/>
          </p:nvPicPr>
          <p:blipFill>
            <a:blip r:embed="rId4"/>
            <a:stretch/>
          </p:blipFill>
          <p:spPr>
            <a:xfrm>
              <a:off x="1511280" y="1609560"/>
              <a:ext cx="615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697040" y="164304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Стрелка вниз 10"/>
          <p:cNvGrpSpPr/>
          <p:nvPr/>
        </p:nvGrpSpPr>
        <p:grpSpPr>
          <a:xfrm>
            <a:off x="1584360" y="2610000"/>
            <a:ext cx="615960" cy="534960"/>
            <a:chOff x="1584360" y="2610000"/>
            <a:chExt cx="615960" cy="534960"/>
          </a:xfrm>
        </p:grpSpPr>
        <p:pic>
          <p:nvPicPr>
            <p:cNvPr id="183" name="Стрелка вниз 10" descr=""/>
            <p:cNvPicPr/>
            <p:nvPr/>
          </p:nvPicPr>
          <p:blipFill>
            <a:blip r:embed="rId5"/>
            <a:stretch/>
          </p:blipFill>
          <p:spPr>
            <a:xfrm>
              <a:off x="1584360" y="2610000"/>
              <a:ext cx="6159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768320" y="2643120"/>
              <a:ext cx="249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Стрелка вниз 11"/>
          <p:cNvGrpSpPr/>
          <p:nvPr/>
        </p:nvGrpSpPr>
        <p:grpSpPr>
          <a:xfrm>
            <a:off x="1584360" y="3676680"/>
            <a:ext cx="615960" cy="541440"/>
            <a:chOff x="1584360" y="3676680"/>
            <a:chExt cx="615960" cy="541440"/>
          </a:xfrm>
        </p:grpSpPr>
        <p:pic>
          <p:nvPicPr>
            <p:cNvPr id="186" name="Стрелка вниз 11" descr=""/>
            <p:cNvPicPr/>
            <p:nvPr/>
          </p:nvPicPr>
          <p:blipFill>
            <a:blip r:embed="rId6"/>
            <a:stretch/>
          </p:blipFill>
          <p:spPr>
            <a:xfrm>
              <a:off x="1584360" y="3676680"/>
              <a:ext cx="615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768320" y="3714840"/>
              <a:ext cx="24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Стрелка вниз 12"/>
          <p:cNvGrpSpPr/>
          <p:nvPr/>
        </p:nvGrpSpPr>
        <p:grpSpPr>
          <a:xfrm>
            <a:off x="6656400" y="4535640"/>
            <a:ext cx="615960" cy="536400"/>
            <a:chOff x="6656400" y="4535640"/>
            <a:chExt cx="615960" cy="536400"/>
          </a:xfrm>
        </p:grpSpPr>
        <p:pic>
          <p:nvPicPr>
            <p:cNvPr id="189" name="Стрелка вниз 12" descr=""/>
            <p:cNvPicPr/>
            <p:nvPr/>
          </p:nvPicPr>
          <p:blipFill>
            <a:blip r:embed="rId7"/>
            <a:stretch/>
          </p:blipFill>
          <p:spPr>
            <a:xfrm>
              <a:off x="6656400" y="4535640"/>
              <a:ext cx="615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840360" y="4572000"/>
              <a:ext cx="24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Стрелка вниз 13"/>
          <p:cNvGrpSpPr/>
          <p:nvPr/>
        </p:nvGrpSpPr>
        <p:grpSpPr>
          <a:xfrm>
            <a:off x="3938760" y="4035600"/>
            <a:ext cx="547560" cy="609480"/>
            <a:chOff x="3938760" y="4035600"/>
            <a:chExt cx="547560" cy="609480"/>
          </a:xfrm>
        </p:grpSpPr>
        <p:pic>
          <p:nvPicPr>
            <p:cNvPr id="192" name="Стрелка вниз 13" descr=""/>
            <p:cNvPicPr/>
            <p:nvPr/>
          </p:nvPicPr>
          <p:blipFill>
            <a:blip r:embed="rId8"/>
            <a:stretch/>
          </p:blipFill>
          <p:spPr>
            <a:xfrm>
              <a:off x="3938760" y="4035600"/>
              <a:ext cx="547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16200000">
              <a:off x="4034520" y="416124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TextBox 14"/>
          <p:cNvSpPr/>
          <p:nvPr/>
        </p:nvSpPr>
        <p:spPr>
          <a:xfrm>
            <a:off x="4000680" y="1143000"/>
            <a:ext cx="2214360" cy="580680"/>
          </a:xfrm>
          <a:prstGeom prst="rect">
            <a:avLst/>
          </a:prstGeom>
          <a:gradFill rotWithShape="0">
            <a:gsLst>
              <a:gs pos="0">
                <a:srgbClr val="d1e5f6"/>
              </a:gs>
              <a:gs pos="100000">
                <a:srgbClr val="f1f8fd"/>
              </a:gs>
            </a:gsLst>
            <a:lin ang="16200000"/>
          </a:gradFill>
          <a:ln w="9360">
            <a:solidFill>
              <a:srgbClr val="aec0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acc4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80acc4"/>
                </a:solidFill>
                <a:latin typeface="Constantia"/>
              </a:rPr>
              <a:t>пепсин</a:t>
            </a:r>
            <a:r>
              <a:rPr b="0" lang="ru-RU" sz="1600" spc="-1" strike="noStrike">
                <a:solidFill>
                  <a:srgbClr val="80acc4"/>
                </a:solidFill>
                <a:latin typeface="Constantia"/>
              </a:rPr>
              <a:t> в желудк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4000680" y="1857240"/>
            <a:ext cx="2214360" cy="824040"/>
          </a:xfrm>
          <a:prstGeom prst="rect">
            <a:avLst/>
          </a:prstGeom>
          <a:gradFill rotWithShape="0">
            <a:gsLst>
              <a:gs pos="0">
                <a:srgbClr val="d1e5f6"/>
              </a:gs>
              <a:gs pos="100000">
                <a:srgbClr val="f1f8fd"/>
              </a:gs>
            </a:gsLst>
            <a:lin ang="16200000"/>
          </a:gradFill>
          <a:ln w="9360">
            <a:solidFill>
              <a:srgbClr val="aec0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acc4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80acc4"/>
                </a:solidFill>
                <a:latin typeface="Constantia"/>
              </a:rPr>
              <a:t>трипсин</a:t>
            </a:r>
            <a:r>
              <a:rPr b="0" lang="ru-RU" sz="1600" spc="-1" strike="noStrike">
                <a:solidFill>
                  <a:srgbClr val="80acc4"/>
                </a:solidFill>
                <a:latin typeface="Constantia"/>
              </a:rPr>
              <a:t> в тонком кишечник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Прямая со стрелкой 17"/>
          <p:cNvCxnSpPr>
            <a:stCxn id="194" idx="1"/>
            <a:endCxn id="171" idx="3"/>
          </p:cNvCxnSpPr>
          <p:nvPr/>
        </p:nvCxnSpPr>
        <p:spPr>
          <a:xfrm flipH="1">
            <a:off x="3499920" y="1433880"/>
            <a:ext cx="501120" cy="8866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7" name="Прямая со стрелкой 20"/>
          <p:cNvCxnSpPr>
            <a:stCxn id="195" idx="1"/>
            <a:endCxn id="171" idx="3"/>
          </p:cNvCxnSpPr>
          <p:nvPr/>
        </p:nvCxnSpPr>
        <p:spPr>
          <a:xfrm flipH="1">
            <a:off x="3499920" y="2149560"/>
            <a:ext cx="501120" cy="172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98" name="TextBox 24"/>
          <p:cNvSpPr/>
          <p:nvPr/>
        </p:nvSpPr>
        <p:spPr>
          <a:xfrm>
            <a:off x="428760" y="5286240"/>
            <a:ext cx="3000240" cy="1373760"/>
          </a:xfrm>
          <a:prstGeom prst="rect">
            <a:avLst/>
          </a:prstGeom>
          <a:solidFill>
            <a:srgbClr val="bbc6d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белка при расщеплении дает 17,6 кД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овсюду, где мы встречаем жизнь, мы находим, что она связана с каким-либо белковым телом, и повсюду, где мы встречаем какое-либо белковое тело, не находящееся в процессе разложения, мы без исключения встречаем и явление жизни».                                                             ( К. Маркс, Ф.Энгельс. Собрание сочинений. Т.20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8363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ль белков в клетк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Строительный материа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лочки, органоидов и мембран клетки. Из них построены кровеносные сосуды, сухожилия, волос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Каталитическая функция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клеточные катализаторы – бел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игательная функция.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кратительные белки вызывают всякое дви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28760" y="28584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Транспортная роль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ок крови гемоглобин присоединяет кислород и разносит по всем тканя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Защитная функция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работка белковых тел антител для обезвреживания чужеродных веще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 Энергетическая функция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разложении 1 г белка выделяется 17,6 кДж энергии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держание белков в различных тканях челове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мышца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о 80%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селезенке, крови, легки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коло 72%;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коже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3%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пече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57%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мозг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15%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жировая ткань, костная и ткань зуб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держат от 14 до 28% бел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28400" y="428400"/>
            <a:ext cx="8218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Белки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– это сложные высокомолекулярные природные соединения, построенные из остатков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α – аминокислот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,   соединенных   пептидными   (амидными)  связями  ―СО ―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NH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―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троение белков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Белков в клетках больше, чем каких бы то ни было других органических соединений: на их долю приходится свыше 50% общей сухой массы клето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7" descr="{89436939-D16C-4693-98C6-D7521CC447A5}"/>
          <p:cNvPicPr/>
          <p:nvPr/>
        </p:nvPicPr>
        <p:blipFill>
          <a:blip r:embed="rId1"/>
          <a:stretch/>
        </p:blipFill>
        <p:spPr>
          <a:xfrm>
            <a:off x="4714920" y="1125360"/>
            <a:ext cx="4214880" cy="280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{D87B3C2D-55E9-4AE4-908B-6815C6D1C768}"/>
          <p:cNvPicPr/>
          <p:nvPr/>
        </p:nvPicPr>
        <p:blipFill>
          <a:blip r:embed="rId2"/>
          <a:stretch/>
        </p:blipFill>
        <p:spPr>
          <a:xfrm>
            <a:off x="5072040" y="4121280"/>
            <a:ext cx="4071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труктуры белковой молекул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Уровни структуры белков: 1 — первичная, 2 — вторичная, 3 — третичная, 4 — четвертичная"/>
          <p:cNvPicPr/>
          <p:nvPr/>
        </p:nvPicPr>
        <p:blipFill>
          <a:blip r:embed="rId1"/>
          <a:stretch/>
        </p:blipFill>
        <p:spPr>
          <a:xfrm>
            <a:off x="1116000" y="1197000"/>
            <a:ext cx="5040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зные способы изображения  трёхмерной структуры бел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Разные способы изображения трёхмерной структуры белка на примере фермента триозофосфатизомеразы. Слева — «палочковая» модель, с изображением всех атомов и связей между ними; цветами показаны элементы. В середине изображены структурные мотивы, α-спирали и β-листы. Справа изображена контактная поверхность белка, на основании Ван-дер-Ваальсовых радиусов атомов; цветами показаны особенности активности участков"/>
          <p:cNvPicPr/>
          <p:nvPr/>
        </p:nvPicPr>
        <p:blipFill>
          <a:blip r:embed="rId1"/>
          <a:stretch/>
        </p:blipFill>
        <p:spPr>
          <a:xfrm>
            <a:off x="250920" y="1916280"/>
            <a:ext cx="86421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342200" cy="12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инокислоты, участвующие в создании белко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ицин                    Аланин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ин                      Лейц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лейцин                      Се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он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стеин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imag1002"/>
          <p:cNvPicPr/>
          <p:nvPr/>
        </p:nvPicPr>
        <p:blipFill>
          <a:blip r:embed="rId1"/>
          <a:stretch/>
        </p:blipFill>
        <p:spPr>
          <a:xfrm>
            <a:off x="2484360" y="1700280"/>
            <a:ext cx="158292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imag1004"/>
          <p:cNvPicPr/>
          <p:nvPr/>
        </p:nvPicPr>
        <p:blipFill>
          <a:blip r:embed="rId2"/>
          <a:stretch/>
        </p:blipFill>
        <p:spPr>
          <a:xfrm>
            <a:off x="6084720" y="1700280"/>
            <a:ext cx="2087640" cy="90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imag1006"/>
          <p:cNvPicPr/>
          <p:nvPr/>
        </p:nvPicPr>
        <p:blipFill>
          <a:blip r:embed="rId3"/>
          <a:stretch/>
        </p:blipFill>
        <p:spPr>
          <a:xfrm>
            <a:off x="2050920" y="2565360"/>
            <a:ext cx="2376720" cy="987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imag1008"/>
          <p:cNvPicPr/>
          <p:nvPr/>
        </p:nvPicPr>
        <p:blipFill>
          <a:blip r:embed="rId4"/>
          <a:stretch/>
        </p:blipFill>
        <p:spPr>
          <a:xfrm>
            <a:off x="5867280" y="2637000"/>
            <a:ext cx="2737080" cy="115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imag1010"/>
          <p:cNvPicPr/>
          <p:nvPr/>
        </p:nvPicPr>
        <p:blipFill>
          <a:blip r:embed="rId5"/>
          <a:stretch/>
        </p:blipFill>
        <p:spPr>
          <a:xfrm>
            <a:off x="2771640" y="3716280"/>
            <a:ext cx="230508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imag1012"/>
          <p:cNvPicPr/>
          <p:nvPr/>
        </p:nvPicPr>
        <p:blipFill>
          <a:blip r:embed="rId6"/>
          <a:stretch/>
        </p:blipFill>
        <p:spPr>
          <a:xfrm>
            <a:off x="6516720" y="3860640"/>
            <a:ext cx="2158920" cy="835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imag1014"/>
          <p:cNvPicPr/>
          <p:nvPr/>
        </p:nvPicPr>
        <p:blipFill>
          <a:blip r:embed="rId7"/>
          <a:stretch/>
        </p:blipFill>
        <p:spPr>
          <a:xfrm>
            <a:off x="2411280" y="4869000"/>
            <a:ext cx="2305080" cy="865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imag1016"/>
          <p:cNvPicPr/>
          <p:nvPr/>
        </p:nvPicPr>
        <p:blipFill>
          <a:blip r:embed="rId8"/>
          <a:stretch/>
        </p:blipFill>
        <p:spPr>
          <a:xfrm>
            <a:off x="6659640" y="486900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BTAR_RGT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459640" y="6237360"/>
            <a:ext cx="435240" cy="365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BTAR_LFT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885080" y="6237360"/>
            <a:ext cx="43488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имические свойства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гидроли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при нагревании с растворами кислот, щелочей, при действии фермент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елок ↔ аминокислоты  →  кровь во все клетки и ткани организ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           O  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─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─C ─N ─CH─C─N ─CH─C=O 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    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O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                I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ипепти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              S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─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─C=O + 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─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─C=O + 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─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─C=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                    I       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                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ицин                                серин                             цисте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0:34:18Z</dcterms:created>
  <dc:creator>Customer</dc:creator>
  <dc:description/>
  <dc:language>en-US</dc:language>
  <cp:lastModifiedBy>Admin</cp:lastModifiedBy>
  <dcterms:modified xsi:type="dcterms:W3CDTF">2013-04-04T15:45:21Z</dcterms:modified>
  <cp:revision>63</cp:revision>
  <dc:subject/>
  <dc:title>  Презентация подготовлена учителем химии МОУСОШ №1 С.В. Потеевой </dc:title>
</cp:coreProperties>
</file>